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A9EA-83DB-4E5C-B565-A02B2B0918DB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998B-5004-4E9D-B146-59BC4E704FF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C39-3A36-4F0E-9252-CE063C934FE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gdc.gov/metadata" TargetMode="External"/><Relationship Id="rId2" Type="http://schemas.openxmlformats.org/officeDocument/2006/relationships/hyperlink" Target="http://gcmd.nasa.gov/" TargetMode="External"/><Relationship Id="rId3" Type="http://schemas.openxmlformats.org/officeDocument/2006/relationships/hyperlink" Target="http://www.gsdi.org/pubs/cookbook/chapter03a.html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Creating Documentation and Metadata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Metadata for Discovery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ola Olse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yler Stevens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Wyle Information Systems (NASA Contractor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set description (metadata) that provides the essential information to determine if a particular data set meets the users’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ys to the user the nature and content of th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will usually contain less information than other types of metadata (i.e. use metadata, granule metadata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controlled keyword vocabulary is essential to provide a normalized discovery of data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5" name="Content Placeholder 4" descr=""/>
          <p:cNvPicPr/>
          <p:nvPr/>
        </p:nvPicPr>
        <p:blipFill>
          <a:blip r:embed="rId1"/>
          <a:stretch/>
        </p:blipFill>
        <p:spPr>
          <a:xfrm>
            <a:off x="420840" y="2316240"/>
            <a:ext cx="121428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8636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8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9" name=""/>
          <p:cNvSpPr txBox="1"/>
          <p:nvPr/>
        </p:nvSpPr>
        <p:spPr>
          <a:xfrm>
            <a:off x="57168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makes it easier to find relevant data in data inventory system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ing able to find and distinguish data from other similar data sets makes maintaining a data inventory easier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ing and maintaining metadata is part of a data management lifecycl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deral Geographic Data Committee (FGDC). Geospatial Metadata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fgdc.gov/metadata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gcmd.nasa.gov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aylor, Mark. 2000. “Developing Spatial Data Infrastructures – The SDI Cookbook”. Global Spatial Data Infrastructure Association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gsdi.org/pubs/cookbook/chapter03a.html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reating documentation and 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ublishing Metadata to GCM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tstevens</cp:lastModifiedBy>
  <dcterms:modified xsi:type="dcterms:W3CDTF">2011-10-12T12:54:34Z</dcterms:modified>
  <cp:revision>75</cp:revision>
  <dc:subject/>
  <dc:title>ESIP Federation 101</dc:title>
</cp:coreProperties>
</file>